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16FB-A5E1-4912-AC50-1282AF9E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9760-7C85-49B6-8CAF-451EF801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E32-E9A3-4AE1-AAC2-D0147D39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F73-AA11-499A-8CB2-4080ECAC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22F-5680-4F88-820A-4B01EF50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0A0-5E06-4934-9FE4-D5F95CD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E75-3F14-4578-A9CA-02C885E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B0A-A9CC-4289-A537-FAF979E4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A07-838C-4991-92F8-E7234553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99C-8511-46DB-A9F9-B37A7A8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DD-E927-452A-A0AE-CBFC6499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BB2-6F8A-44C9-9BB2-A6FA91DF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77F-B692-4FB4-BA85-2D54A582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134-35E8-41C3-A4D9-18BF868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099-EF86-4C4C-B669-97640B7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0E8-D921-4847-B884-4F19D2C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79E-8BD8-4505-B15F-C93A577D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19080" y="1386000"/>
            <a:ext cx="73058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2"/>
          <p:cNvSpPr/>
          <p:nvPr/>
        </p:nvSpPr>
        <p:spPr>
          <a:xfrm>
            <a:off x="639720" y="3733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92" descr=""/>
          <p:cNvPicPr/>
          <p:nvPr/>
        </p:nvPicPr>
        <p:blipFill>
          <a:blip r:embed="rId1"/>
          <a:stretch/>
        </p:blipFill>
        <p:spPr>
          <a:xfrm>
            <a:off x="1252440" y="622440"/>
            <a:ext cx="663912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93"/>
          <p:cNvSpPr/>
          <p:nvPr/>
        </p:nvSpPr>
        <p:spPr>
          <a:xfrm>
            <a:off x="639720" y="11541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0800" y="4191120"/>
          <a:ext cx="7637400" cy="1828800"/>
        </p:xfrm>
        <a:graphic>
          <a:graphicData uri="http://schemas.openxmlformats.org/drawingml/2006/table">
            <a:tbl>
              <a:tblPr/>
              <a:tblGrid>
                <a:gridCol w="587160"/>
                <a:gridCol w="587520"/>
                <a:gridCol w="611280"/>
                <a:gridCol w="539640"/>
                <a:gridCol w="608040"/>
                <a:gridCol w="598320"/>
                <a:gridCol w="555840"/>
                <a:gridCol w="627120"/>
                <a:gridCol w="604800"/>
                <a:gridCol w="515880"/>
                <a:gridCol w="609480"/>
                <a:gridCol w="594000"/>
                <a:gridCol w="598320"/>
              </a:tblGrid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2M/CD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2M/GO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1857240" y="1266840"/>
            <a:ext cx="5486400" cy="4178160"/>
            <a:chOff x="1857240" y="1266840"/>
            <a:chExt cx="5486400" cy="4178160"/>
          </a:xfrm>
        </p:grpSpPr>
        <p:sp>
          <p:nvSpPr>
            <p:cNvPr id="57" name="AutoShape 6"/>
            <p:cNvSpPr/>
            <p:nvPr/>
          </p:nvSpPr>
          <p:spPr>
            <a:xfrm>
              <a:off x="1857240" y="1266840"/>
              <a:ext cx="5486400" cy="41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7" descr="PIKA-11 PCR, 2007-08-07"/>
            <p:cNvPicPr/>
            <p:nvPr/>
          </p:nvPicPr>
          <p:blipFill>
            <a:blip r:embed="rId1"/>
            <a:stretch/>
          </p:blipFill>
          <p:spPr>
            <a:xfrm>
              <a:off x="1857240" y="1266840"/>
              <a:ext cx="54864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8"/>
            <p:cNvSpPr/>
            <p:nvPr/>
          </p:nvSpPr>
          <p:spPr>
            <a:xfrm>
              <a:off x="2414520" y="168516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3112560" y="1685160"/>
              <a:ext cx="62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3879360" y="1685160"/>
              <a:ext cx="696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4855680" y="1685160"/>
              <a:ext cx="4183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5622840" y="168516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6111000" y="356760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414520" y="356760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6111000" y="168516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6528960" y="168516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K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6528960" y="356760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K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3042360" y="3567600"/>
              <a:ext cx="62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3879360" y="3567600"/>
              <a:ext cx="696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4855680" y="3567600"/>
              <a:ext cx="4183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5622840" y="356760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4158360" y="1406160"/>
              <a:ext cx="1115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2M/CD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3"/>
            <p:cNvSpPr/>
            <p:nvPr/>
          </p:nvSpPr>
          <p:spPr>
            <a:xfrm>
              <a:off x="4158360" y="3358080"/>
              <a:ext cx="1185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2M/FAB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5545800" y="4547880"/>
              <a:ext cx="660960" cy="1141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5"/>
            <p:cNvSpPr/>
            <p:nvPr/>
          </p:nvSpPr>
          <p:spPr>
            <a:xfrm>
              <a:off x="3470040" y="259920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6"/>
            <p:cNvSpPr/>
            <p:nvPr/>
          </p:nvSpPr>
          <p:spPr>
            <a:xfrm>
              <a:off x="3470040" y="269532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3006360" y="2453400"/>
              <a:ext cx="528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CD7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3006360" y="2599920"/>
              <a:ext cx="528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B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9"/>
            <p:cNvSpPr/>
            <p:nvPr/>
          </p:nvSpPr>
          <p:spPr>
            <a:xfrm>
              <a:off x="3470040" y="454212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>
              <a:off x="3470040" y="463176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1"/>
            <p:cNvSpPr/>
            <p:nvPr/>
          </p:nvSpPr>
          <p:spPr>
            <a:xfrm>
              <a:off x="3006360" y="4396320"/>
              <a:ext cx="528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B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>
              <a:off x="2885760" y="4536360"/>
              <a:ext cx="649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FABP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3841560" y="4554360"/>
              <a:ext cx="660960" cy="1141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8:18:28Z</dcterms:created>
  <dc:creator>shayne.boucher</dc:creator>
  <dc:description/>
  <dc:language>en-US</dc:language>
  <cp:lastModifiedBy>Meghan Harnois</cp:lastModifiedBy>
  <dcterms:modified xsi:type="dcterms:W3CDTF">2010-07-12T20:18:46Z</dcterms:modified>
  <cp:revision>3</cp:revision>
  <dc:subject/>
  <dc:title>Figure 1</dc:title>
</cp:coreProperties>
</file>